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607-6BC1-4F28-89DD-501246481C5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9D6-8E93-488F-8E6B-8FBCC5BCB78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C146-4866-425E-8E75-52BC41EAFF1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2A7-CD2D-44F6-B6CA-BD982664CD4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6614-8680-4B65-ACA1-C6FFB0A886C5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70A-DEC0-4669-BEE0-6FFC77EA0E0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76A8-8C23-479A-9059-1445B63BF25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9EC-D900-4E45-9AEC-C3310490B9D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4A89-F0D4-4F73-BE5F-44A9443D123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F619-FDB7-416B-8926-861D90435FEC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2BD-02EE-4ACC-96A3-EC500D07141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4BD-A236-45E5-9DC6-C4A05FAA950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43E-C2A4-49A5-8CB7-034FC0E8313A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EDC9-72C5-4EAC-B5DD-EAF72607417D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274-AC7B-430A-AABB-51E65454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7B9-B6CD-4E5F-9340-A130870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5F6-CBE4-41A2-A955-DA33FEAC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DEE-9701-4E10-A5BC-3FB43D48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5352-130D-4A37-9CCD-23817EC6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BA2-811B-49FF-B42D-CE4AFCB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55D6-32BE-4C2C-B6D8-0233BC0F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DAA9-00C4-4FDF-B114-839AA7A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497-1E87-4349-8F5C-9C328DFF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9371-8F2C-4779-A08F-46FF182E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CE54-6965-4E45-8FA3-A5B2C99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75F-61B1-44D0-8C02-E21B982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346-6F1F-4C1E-A714-9BA3F81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92B-D37A-458A-9A3C-20667347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F440-81B4-450B-A6A4-8290B17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47AF-A190-4E54-BDAB-467A3467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140A-4B3A-4B1C-A336-EA37B32D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DE41F-509C-481B-82C3-DC6408C1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6FC7E-6519-428B-8E8B-FD2416E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17D76-44F7-4223-86DE-5BE1DE0F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6945F-154B-46D9-A95E-19DE7498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6632F-DE8E-4963-9C7A-F4E6A85E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C76-908A-487A-8CB4-C3260CF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3B46C-66A5-43BB-8233-7FD290D7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07433-86F1-40E6-9169-C95980B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2D853-A988-41E3-8DD2-D5182ED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2694B-3CBA-4B79-A374-FAF1804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62F1F-7BB5-4F70-A40F-7D5B8D2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0A56A-EFA7-4601-88E6-519B9A60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6E481-3B90-49EC-AD7B-FCB0DF63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3164-1D93-443A-95F9-49C723EB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D570-0EAA-4128-A5BE-C53F559B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044D7-4BBE-48E0-A7A5-123E280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58F-4213-44E4-B4ED-5BEBFA1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60F0-5628-419D-AFC9-B297CFFE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850C-924C-4B37-9B44-D8D35AD0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60730-8C16-4FBA-AE4D-9A8541F1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B6EC0-4D0F-4C7B-AF31-4EF6483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8099-4C79-48C0-8ABC-3F89D7D8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97BF-D5B6-4CB3-BB02-A8B75E2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A53DF-38AC-44A2-B484-0EAC32A1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3CED-2C0B-452E-81BD-CA226F83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0574-A782-4316-B46F-AA5EC0EA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9FF5B-E18F-4B75-A36E-0ADE65F0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4C6-2C3E-4727-80B2-ECB2351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6AA3E-7C26-4E65-99F5-DFBD9F89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1EEF3-9B4C-45EA-83A9-2E2CC5D5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FD872-8493-4D2D-9851-2DBA777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1629D-25F3-4F81-B173-A8E4C45C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87255-1BD3-4296-801D-C72C97E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5D383-BF6F-42B0-ABB9-88ADA98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88489-6CD1-4A4B-8D12-B80AC374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6E9FA-A617-4266-8419-48C8459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7A880-B8B9-4896-BAC2-D4B90403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21860-A41C-4E47-8731-396151C9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FA2-E190-439A-BEC7-DE17D145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52F2C-9CCD-4B63-BF0C-28C0CE40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31BBE-8514-437E-99B8-E12FBC2B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0A73D-6588-46D1-BEDD-9CE20809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4B675-A4A9-4196-9A00-03984A62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E74A1-E6DE-4DC8-B961-777137D3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7581B-E456-46CE-AC0A-35BC879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66EE9-E022-4132-AB60-2F8D33E8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86556-3066-43DD-803A-10E5344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BC561-3528-4AB1-871A-CD687B31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55DCE-8629-49B2-ABBC-4AD99F6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467-236E-4DCD-AF51-D3B90CFD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8FC18-FD36-4B46-AFD4-36229A6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0BA25-897C-47F5-992E-5DABD859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AAFA2-DA8D-460E-B688-46BB70D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0478D-754F-4FD1-AF2E-FDDEC1A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7CDC1-38DE-4105-82CD-DE8B99DF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3394E-099F-425C-A020-63EF9E08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8317A-870A-4A9E-AE63-52095CB4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81DEC-1F4E-426E-964C-97FF6643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6DBC3-4CFB-453C-9CB9-ED40EAE9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0BE25-C0CF-41B8-9DF9-94CA3F21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7EB-A755-4300-9A33-37BC355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053F48-5C55-42C4-BCDC-DEA0EF3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C3CB0-61B8-4C76-AA23-CAB0067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EFDF9-11A7-480E-B9CB-E9B8EF93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9587E-2E2E-464D-9F54-F02C5760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5B9A3-B34C-4A27-9134-619C3549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089-5A24-439A-B809-5262826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9EA8-4FDB-452F-A83B-E12B9729413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FD44-CBFA-425C-AE87-DBD8799AE23C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4C6B-1612-47A4-8528-6848B978FA49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38CD-5614-4924-B1BD-AC08B143B2A1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3F2D-0137-4754-9A1B-094C92B622D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4B06-C783-4449-AE3C-0F951E45ACC0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8595-5407-4C37-A682-B8ED85215F0F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99972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inos ekvivalentan obveznici – Bond Equivalent Yield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be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ili ASK Yield iz listing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ASK Yield se v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zbog nedostatka prethodne metode i prikazuje realniji prinos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 pravilu je v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od prinosa dobijenog metodom bankarskog disko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kont se stavlja u odnos sa prodajnom cijenom i svodi se na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nivo uklju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vanjem svih 365 dan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ektivni god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ji prinos (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e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koristi slozeni kamatni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 i predstavlja najrealniji ob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, koji nije u upotrebi kod r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a prinosa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501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1143000"/>
            <a:ext cx="8572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ržište obveznica – tržište kapitala sa fiksnim prihodo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  (T-notes i T-bonds), dug državnih agencija, municipalne obveznice, hipotekarne hov i s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Srednjoročne i dugoročne državne obvezn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zdaju se sa denominacijom od 1.000 dolara i više; polugodišnja isplata kupo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sr-Latn-CS" sz="1800" spc="-1" strike="noStrike">
                <a:solidFill>
                  <a:srgbClr val="000000"/>
                </a:solidFill>
                <a:latin typeface="Century Schoolbook"/>
              </a:rPr>
              <a:t>Treasury bon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14240" y="5000760"/>
          <a:ext cx="7429680" cy="1160280"/>
        </p:xfrm>
        <a:graphic>
          <a:graphicData uri="http://schemas.openxmlformats.org/drawingml/2006/table">
            <a:tbl>
              <a:tblPr/>
              <a:tblGrid>
                <a:gridCol w="1238400"/>
                <a:gridCol w="1905120"/>
                <a:gridCol w="928440"/>
                <a:gridCol w="1214640"/>
                <a:gridCol w="904680"/>
                <a:gridCol w="1238400"/>
              </a:tblGrid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 Mo/Y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b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4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: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143000"/>
            <a:ext cx="77580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bveznica dospijeva  za naplatu 2014. godine. Kuponski prihod iznosi 4% nominalne vrijedno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Brojevi na desnoj strani koji određuju kupovnu i prodajnu cijenu predstavljaju jedinice od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/32. Tj.,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upov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6/32 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ili 94,5 prodajna cijena iznosi 94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17/32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ili 94,531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Ove cijene predstavljaju procenat nominalne vrijednosti – cijene su zapravo 945 $ i 945,31 $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omjena od +3 znači da je cijena tog dana porasla za 3/32 (procenat od nominalne vrijed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Prinos do dospijeća je mjera godišnje stope prinosa za investitora koji je kupio obveznicu i drži je do dana dospijeć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14200" y="1071720"/>
            <a:ext cx="8715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ug državnih agencija (Fannie Mae, Freddie Mac, Ginnie Mae) – nizak riz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obvezni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orporativne obveznice (opozive i konvertibil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Century Schoolbook"/>
              </a:rPr>
              <a:t>Municipalne obveznice – izdaje ih opština i oslobođene su lokalnih poreza na prihod od kama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vije vrste: general obligation bonds (obveznice opšte obaveze) i revenue bonds (dohodovne obveznice – osigurane prihodima projekta; rizičnije u odnosu na obveznice opšte obavez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ospijeće do 30 godin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 – prinos na oporezive obveznice nakon plaćanja porez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rši se komparacija sa prinosom municipalnih obveznica i traži ekvivalentan oporezivi prino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rinosu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obveznice izuzete od porez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R(1-t)=Rm ili R=Rm/(1-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720"/>
            <a:ext cx="797256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Ukoliko je ekvivalentni oporezivi prinos veći od stvarnog prinosa na obveznice, onda će investitor rađe drž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t= 1- (Rm/R) – što je veći odnos između Rm i R, investitor će preferirati municipalne obvezn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8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52280"/>
            <a:ext cx="8258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Materijalna vs. Finansijska ak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inansijska aktiva – nematerijalizovan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lasifikacija finansijske aktive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OV sa fiksnim prihodom (obveznica donosi kamatnu stopu koja je fiksirana tako da bude za 2% v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od stope koja se pla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na kratkoro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vne obveznice – T bills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Promjenljiva kamatna stopa – isplata zavisi od teku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e kamatne stop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Vezuju se za razli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ita dospij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a i prinose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novca se odnosi na kratk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koje su visokolikvidne i nose niza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       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r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i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š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te kapitala se ve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ž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e za dugoro</a:t>
            </a:r>
            <a:r>
              <a:rPr b="0" i="1" lang="sr-Latn-CS" sz="1900" spc="-1" strike="noStrike">
                <a:solidFill>
                  <a:srgbClr val="ff0000"/>
                </a:solidFill>
                <a:latin typeface="Century Schoolbook"/>
              </a:rPr>
              <a:t>č</a:t>
            </a:r>
            <a:r>
              <a:rPr b="0" i="1" lang="en-US" sz="1900" spc="-1" strike="noStrike">
                <a:solidFill>
                  <a:srgbClr val="ff0000"/>
                </a:solidFill>
                <a:latin typeface="Century Schoolbook"/>
              </a:rPr>
              <a:t>ne HOV – Treasury bonds, visok prinos i visok rizik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Junk obveznice</a:t>
            </a:r>
            <a:r>
              <a:rPr b="0" lang="sr-Latn-CS" sz="1900" spc="-1" strike="noStrike">
                <a:solidFill>
                  <a:srgbClr val="000000"/>
                </a:solidFill>
                <a:latin typeface="Century Schoolbook"/>
              </a:rPr>
              <a:t> (ispod BBB rejtinga)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6044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927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980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7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.   Akcije – vrijednost akcijskog kapitala se vezuje za uspjeh firme i njenu materijalnu aktivu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2.   Finansijski derivati – opcije i termniski ugovor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all opcija – pravo da se akcije kupe po ut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đ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oj cijeni izv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nja (strike cijena) na dan isteka opcije ili prije tog datum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Vrijednost derivata se izvodi iz vrijednosti drugih instrumenata. Vrijednost pomenute call opcije zavisi od cijene akcije na koju se odnosi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ju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rsi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Osiguranje od rizika ili prenos rizika na druge ucesnik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rtfolio – skup investicija jednog investito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vije vrste odluka : o alokaciji aktive (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roke klase) i o odabiru hartija od vrijednosti (hov unutar svake klase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 –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gradnja portfolija p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je alokacijom aktive (berza akcija ili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 nov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ottom – u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rategija podrazumijeva analizu HOV u koje se u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 u okviru pojedinih klasa (analiza cijene, prinosa, kamatnih stopa i sl.). Ova strategija usmjerava portfolio na aktivu koja je najpriv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ija za ulag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1214280"/>
            <a:ext cx="8472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ratkor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ne obvezni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-bills ili Treasury b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soko likvidno t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prodaje zapise, a investitori ih kupuju uz diskont ili popust u odnosu na navedeni iznos njihov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. Prilikom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r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a ispl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je iznos jednak nominalnoj vrijednosti zapi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zlika izmedju kupovne cijene i kon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 vrijednosti na dospij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jeste zarad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zdaju se jednom nedeljno (dospijece 28, 91 ili 182 da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upuju se direktno ili putem posredni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daju se u minimalnim apoenima od 1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00 dola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501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428760" y="1285920"/>
          <a:ext cx="7929360" cy="1477800"/>
        </p:xfrm>
        <a:graphic>
          <a:graphicData uri="http://schemas.openxmlformats.org/drawingml/2006/table">
            <a:tbl>
              <a:tblPr/>
              <a:tblGrid>
                <a:gridCol w="1322280"/>
                <a:gridCol w="1606680"/>
                <a:gridCol w="1036440"/>
                <a:gridCol w="1320840"/>
                <a:gridCol w="1322280"/>
                <a:gridCol w="13208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ys to 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K Y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2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p 09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v 04 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2700" spc="-1" strike="noStrike">
                <a:solidFill>
                  <a:srgbClr val="575f6d"/>
                </a:solidFill>
                <a:latin typeface="Century Schoolbook"/>
              </a:rPr>
              <a:t> – FINANSIJSK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 INSTRUMENTI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357120" y="9288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easury b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357120" y="29289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mjesto cijene zapisa, listing prikazuje prinose zasnovane na tim cijen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ajna cijena jeste cijena po kojoj diler prodaje, a investitor kup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upovna cijena jeste cijena po kojoj diler kupuje, a investitor pro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aspon izmedju kupovne i prodajne cijene je zarada dil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jena </a:t>
            </a: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metode bankarskog diskonta (Rbd – Discount Banking return)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 ob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u prinosa na prodajnu ili kupovnu cijenu zapisa. Diskont na nominalnu vrijednost se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a na godi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jem nivou na bazi od 360 dana i potom prikazuje kao procenat nominalne vrijed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dostaci metode bankarskog disko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oristi prost kamatni ra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n i 360 dana umje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365 d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avlja u odnos diskont (zaradu) sa nominalnom vrijedno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šć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, umjesto sa kupovnom cijenom</a:t>
            </a:r>
            <a:r>
              <a:rPr b="0" lang="sr-Latn-C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3-14T12:56:38Z</dcterms:modified>
  <cp:revision>32</cp:revision>
  <dc:subject/>
  <dc:title>Slide 1</dc:title>
</cp:coreProperties>
</file>